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23C-83B4-4B7D-8E9A-052E889FA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6DC-F3EA-41E8-ACF2-86B2754B79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935-8653-4298-B5EC-C75DBFDD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02-D239-4A1A-BAA2-798A095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082-D099-4E17-8488-A590F653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3D4-34EF-465E-BE14-97C36E09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1D4-058B-4729-AFCB-78C643F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A12-7369-45F0-A756-408BBB5A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0E1-F2D2-4F71-8268-93426DC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0BF-361D-4448-AD71-FE2DE995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8C-4F6A-4797-95AA-DD8413C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6A0-32F8-47A9-B7C7-7FA5A1B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670-FC96-4E27-997E-5D56AD7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4A9-CD26-4534-A1DF-C760D0A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434-F787-43E8-8E78-55F303A01A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9T17:52:49Z</dcterms:modified>
  <cp:revision>36</cp:revision>
  <dc:subject/>
  <dc:title>What Goes Up Must Come Down</dc:title>
</cp:coreProperties>
</file>